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F84-3C67-4EFF-8C3D-2663F506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B65-EF9E-4AF2-A0E4-7EE8B9A0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1BA-DD29-484B-A6F8-ECF438CD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EE6-24D1-43C4-9D9C-BFF5BA74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D5E8-6070-477E-A8B4-681CFD58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DCB7-C14A-4A7B-BEBE-DBC5C7C2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6E5E-689F-474A-9037-D2117D2B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90D2-0C78-41F5-90E0-8BA66797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7742-E809-4CA1-9D5B-FBB74C6E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04C7-432F-4664-A242-47D0AEEF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3D7F-173D-4969-90D9-4253A137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464-03DC-4BAC-AD71-61C8CD32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72C6-289A-4857-9B96-01413ED2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FF67-7872-41DA-A775-FD7C1AE2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D473-D08E-4AC9-96D8-5B4A294C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C0C7-6A45-4ACE-AD0A-590742DC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0955-05C9-45FE-BB7F-C5C07EC3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E33-4EDB-4526-9730-3F2F2A5C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D23-6440-405D-A2B2-C99BAAE0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82C-8457-4C87-A496-88E10D9C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231-3FA8-4790-9643-05A2C564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A6B-89F5-4070-AD5C-A96478C3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502-23D6-48FA-B291-7D8A88D1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9A9-010E-46F1-87C4-C19333C4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6EB8-12DE-413D-BB83-04BD70DDBA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F656-7ED7-444D-9E2C-3702EACA93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Мониторинг зданий вблизи стройплощадк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073160"/>
            <a:ext cx="8121600" cy="56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фрагмента пояснительной записки ПОС, содержащего перечень мероприятий по организации мониторинга за состоянием зданий и сооружений, расположенных в непосредственной близости от строящегося объекта, земляные, строительные, монтажные и иные работы на котором могут повлиять на техническое состояние и надежность таких зданий и сооруже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водимый мониторинг призван обеспечить постоянный контроль наблюдений за деформациями подземного пространства; наблюдений за деформациями окружающих зданий и сооружений; геодезических наблюдений за тоннельными конструкциями (при необходимости); наблюдений за деформациями самого строящегося сооружения; наблюдений за состоянием окружающей среды; наблюдений за гидрогеологическим режим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 Предоставляемые материалы основаны на современных требованиях к организации и проведению мониторинга, обеспечивающего контроль за всеми факторами, влияющими на техническое состояние и надежность зданий и сооружений, расположенных вблизи возводимого объек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77960" y="1538280"/>
            <a:ext cx="788040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839880" y="1343160"/>
            <a:ext cx="7805520" cy="225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380960" y="888840"/>
            <a:ext cx="6907320" cy="35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84280" y="4262400"/>
            <a:ext cx="812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х необходимых данных пользователь может сформировать и открыть в текстовом редакторе фрагмент пояснительной записки ПОС, учитывающий мероприятия по организации мониторинга за состоянием зданий и сооружений, расположенных в непосредственной близости от строящегося объект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281240" y="1131840"/>
            <a:ext cx="6840360" cy="294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42:05Z</dcterms:modified>
  <cp:revision>280</cp:revision>
  <dc:subject/>
  <dc:title>Слайд 1</dc:title>
</cp:coreProperties>
</file>